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3.png" ContentType="image/png"/>
  <Override PartName="/ppt/media/image17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CAT_MEOW.WAV" ContentType="audio/x-wav"/>
  <Override PartName="/ppt/media/excellnt.wav" ContentType="audio/x-wav"/>
  <Override PartName="/ppt/media/yahoo02.wav" ContentType="audio/x-wav"/>
  <Override PartName="/ppt/media/image27.png" ContentType="image/png"/>
  <Override PartName="/ppt/media/image7.jpeg" ContentType="image/jpeg"/>
  <Override PartName="/ppt/media/image28.jpeg" ContentType="image/jpeg"/>
  <Override PartName="/ppt/media/image9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BARKS.WAV" ContentType="audio/x-wav"/>
  <Override PartName="/ppt/media/image18.jpeg" ContentType="image/jpeg"/>
  <Override PartName="/ppt/media/image15.jpeg" ContentType="image/jpeg"/>
  <Override PartName="/ppt/media/image16.jpeg" ContentType="image/jpeg"/>
  <Override PartName="/ppt/media/boingg.wav" ContentType="audio/x-wav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5B40-D851-4EC0-824A-405CD395E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9CC-8BCD-4ED4-987E-5A373156E0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710D-B2CB-48E5-875F-5E26DAB369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F544-B5EF-472C-B345-4FD1FECB7F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4485-916B-4A14-8E16-E9BB25866B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CCBB-FC23-4406-97DE-00DB546FDE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D578-9C54-4DC9-836E-D57E636DBB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316-C902-4CF5-B95F-77F38F5CC0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16D8-B11C-4B7E-9E86-AA22D7AC10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69AC-EA30-4681-9CA0-A41D7F371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EAA-D315-40DB-8539-C31A0ECB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6B3-6113-4D26-9659-A16C6DDC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9B5-5DB1-4EDE-9E49-94143E60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C3F-E150-4906-872C-CA3902BF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433-0406-4B8C-B9AF-70B363B7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8497-915D-43D3-9109-3DD52FD7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64BE-23A3-4CF9-83E9-ADA8374B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DE4D-AA9A-47B8-BCAB-8E95C0E3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1A87-1B11-40CD-8313-6005E33C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6A56-B6D6-45B1-876C-0ABCA91A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F0A-F1F3-4625-9427-61E368D2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C5C8-9A7D-4952-B467-B0F241CF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50D4-E53A-4363-B799-7447341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5CEB-21C3-406B-954A-73D68674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3812-74C4-4353-AC6A-C1BBCD9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9D54-CCCA-4C47-987F-F2323D1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8569-90F9-4066-9C37-4E5D3518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BDFC-6DDB-452A-83E0-36E1625D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ADF-E3C2-4093-BBA5-DDADD4B3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D23-493E-43ED-A984-B0E2E56B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5DF-C07E-40CF-9D48-BB2FE4F4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380-9549-4E09-B83D-CEE3B159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546-3796-4744-BB1D-F8BBCC7A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620-A784-483C-9F82-743ED4DF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664A-4916-4A20-AD50-7622FB7779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4461-0FFF-4ABA-B48F-760A2BE8D8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BARKS.WAV"/><Relationship Id="rId5" Type="http://schemas.openxmlformats.org/officeDocument/2006/relationships/audio" Target="../media/CAT_MEOW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BARKS.WAV"/><Relationship Id="rId6" Type="http://schemas.openxmlformats.org/officeDocument/2006/relationships/audio" Target="../media/CAT_ME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1859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ffff"/>
                </a:solidFill>
                <a:uFillTx/>
                <a:latin typeface="Century Gothic"/>
              </a:rPr>
              <a:t>Do Now</a:t>
            </a:r>
            <a:endParaRPr b="1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447920"/>
            <a:ext cx="7772400" cy="5029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Century Gothic"/>
                <a:ea typeface="Arial"/>
              </a:rPr>
              <a:t>Answer the following questions in 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Century Gothic"/>
                <a:ea typeface="Arial"/>
              </a:rPr>
              <a:t>five or more </a:t>
            </a:r>
            <a:r>
              <a:rPr b="1" i="1" lang="en-US" sz="3700" spc="-1" strike="noStrike">
                <a:solidFill>
                  <a:srgbClr val="ffffff"/>
                </a:solidFill>
                <a:latin typeface="Century Gothic"/>
                <a:ea typeface="Arial"/>
              </a:rPr>
              <a:t>sentences:</a:t>
            </a:r>
            <a:br>
              <a:rPr sz="3700"/>
            </a:br>
            <a:r>
              <a:rPr b="1" i="1" lang="en-US" sz="3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entury Gothic"/>
                <a:ea typeface="Arial"/>
              </a:rPr>
              <a:t>What was the best part of your Winter Break?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Century Gothic"/>
                <a:ea typeface="Arial"/>
              </a:rPr>
              <a:t>Why was this the best part?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5" descr="http://images.christmastimeclipart.com/images/2/x1303512aa/img_large_watermarked.jpg"/>
          <p:cNvPicPr/>
          <p:nvPr/>
        </p:nvPicPr>
        <p:blipFill>
          <a:blip r:embed="rId1"/>
          <a:stretch/>
        </p:blipFill>
        <p:spPr>
          <a:xfrm>
            <a:off x="7696080" y="228600"/>
            <a:ext cx="1136880" cy="113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ttp://www.daproductions.net/gall2/var/albums/images-984599802/snowflake-clip-art-borders-free.jpg?m=1361923633"/>
          <p:cNvPicPr/>
          <p:nvPr/>
        </p:nvPicPr>
        <p:blipFill>
          <a:blip r:embed="rId2"/>
          <a:srcRect l="0" t="0" r="4271" b="3978"/>
          <a:stretch/>
        </p:blipFill>
        <p:spPr>
          <a:xfrm rot="1448400">
            <a:off x="7689960" y="3871440"/>
            <a:ext cx="1149120" cy="127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http://images.clipartpanda.com/free-snowman-clipart-4cbKaERXi.png"/>
          <p:cNvPicPr/>
          <p:nvPr/>
        </p:nvPicPr>
        <p:blipFill>
          <a:blip r:embed="rId3"/>
          <a:stretch/>
        </p:blipFill>
        <p:spPr>
          <a:xfrm>
            <a:off x="0" y="2916360"/>
            <a:ext cx="18842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nd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ke 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plural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anteceden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1" lang="en-US" sz="35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8" descr="kitten.jpg"/>
          <p:cNvPicPr/>
          <p:nvPr/>
        </p:nvPicPr>
        <p:blipFill>
          <a:blip r:embed="rId1"/>
          <a:stretch/>
        </p:blipFill>
        <p:spPr>
          <a:xfrm>
            <a:off x="6905520" y="41497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puppy.jpg"/>
          <p:cNvPicPr/>
          <p:nvPr/>
        </p:nvPicPr>
        <p:blipFill>
          <a:blip r:embed="rId2"/>
          <a:stretch/>
        </p:blipFill>
        <p:spPr>
          <a:xfrm>
            <a:off x="174600" y="3938760"/>
            <a:ext cx="2809800" cy="286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://fscomps.fotosearch.com/compc/THK/THK015/c0038196.jpg"/>
          <p:cNvPicPr/>
          <p:nvPr/>
        </p:nvPicPr>
        <p:blipFill>
          <a:blip r:embed="rId3"/>
          <a:srcRect l="0" t="0" r="0" b="14527"/>
          <a:stretch/>
        </p:blipFill>
        <p:spPr>
          <a:xfrm>
            <a:off x="3149640" y="4111560"/>
            <a:ext cx="34416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75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75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ach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or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every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ecedes two [or more] singular things joined b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, you have 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singular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anteceden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027"/>
          <p:cNvSpPr/>
          <p:nvPr/>
        </p:nvSpPr>
        <p:spPr>
          <a:xfrm>
            <a:off x="228600" y="2971800"/>
            <a:ext cx="876312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Every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new puppy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kitten destroy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i="1" lang="en-US" sz="35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1" i="1" lang="en-US" sz="35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7" descr="http://fscomps.fotosearch.com/compc/THK/THK015/c0038196.jpg"/>
          <p:cNvPicPr/>
          <p:nvPr/>
        </p:nvPicPr>
        <p:blipFill>
          <a:blip r:embed="rId3"/>
          <a:srcRect l="0" t="0" r="0" b="14527"/>
          <a:stretch/>
        </p:blipFill>
        <p:spPr>
          <a:xfrm>
            <a:off x="266760" y="4702320"/>
            <a:ext cx="1955880" cy="118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http://fscomps.fotosearch.com/compc/THK/THK015/c0038196.jpg"/>
          <p:cNvPicPr/>
          <p:nvPr/>
        </p:nvPicPr>
        <p:blipFill>
          <a:blip r:embed="rId4"/>
          <a:srcRect l="0" t="0" r="0" b="14527"/>
          <a:stretch/>
        </p:blipFill>
        <p:spPr>
          <a:xfrm>
            <a:off x="6781680" y="4835520"/>
            <a:ext cx="19558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11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11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matter </a:t>
            </a: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how many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, the antecedent is </a:t>
            </a: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still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 singular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0" y="3047760"/>
            <a:ext cx="914400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1" i="1" lang="en-US" sz="33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1" i="1" lang="en-US" sz="33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1" i="1" lang="en-US" sz="33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1" i="1" lang="en-US" sz="33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33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231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731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8731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9231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9731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1731"/>
                            </p:stCondLst>
                            <p:childTnLst>
                              <p:par>
                                <p:cTn id="26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231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231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731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6231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Indefinite Pronoun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itle 3"/>
          <p:cNvSpPr/>
          <p:nvPr/>
        </p:nvSpPr>
        <p:spPr>
          <a:xfrm>
            <a:off x="3200400" y="1371600"/>
            <a:ext cx="5791320" cy="50292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entury Gothic"/>
              </a:rPr>
              <a:t>Indefinite Pronoun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a pronoun that </a:t>
            </a:r>
            <a:r>
              <a:rPr b="1" lang="en-US" sz="3200" spc="-1" strike="noStrike">
                <a:solidFill>
                  <a:srgbClr val="ffcc00"/>
                </a:solidFill>
                <a:latin typeface="Century Gothic"/>
              </a:rPr>
              <a:t>does not refer to any person, amount, or thing in particular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For example: </a:t>
            </a: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anything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, </a:t>
            </a: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something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, </a:t>
            </a: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anyone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,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ever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http://comps.canstockphoto.com/can-stock-photo_csp12322511.jpg"/>
          <p:cNvPicPr/>
          <p:nvPr/>
        </p:nvPicPr>
        <p:blipFill>
          <a:blip r:embed="rId1"/>
          <a:srcRect l="0" t="0" r="0" b="3404"/>
          <a:stretch/>
        </p:blipFill>
        <p:spPr>
          <a:xfrm>
            <a:off x="152280" y="2209680"/>
            <a:ext cx="2895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6553080" cy="4495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Each, either, neither</a:t>
            </a:r>
            <a:br>
              <a:rPr sz="2700"/>
            </a:b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Anyone, anybody, anything </a:t>
            </a:r>
            <a:br>
              <a:rPr sz="2700"/>
            </a:b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Everyone, everybody, everything</a:t>
            </a:r>
            <a:br>
              <a:rPr sz="2700"/>
            </a:b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No one, nobody, nothing</a:t>
            </a:r>
            <a:br>
              <a:rPr sz="2700"/>
            </a:br>
            <a:r>
              <a:rPr b="1" lang="en-US" sz="27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Arial"/>
                <a:ea typeface="Arial"/>
              </a:rPr>
              <a:t>Someone, somebody, something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4" name="Picture 5" descr="http://comps.canstockphoto.com/can-stock-photo_csp19901700.jpg"/>
          <p:cNvPicPr/>
          <p:nvPr/>
        </p:nvPicPr>
        <p:blipFill>
          <a:blip r:embed="rId1"/>
          <a:srcRect l="0" t="0" r="0" b="4965"/>
          <a:stretch/>
        </p:blipFill>
        <p:spPr>
          <a:xfrm>
            <a:off x="6172200" y="3657600"/>
            <a:ext cx="2895480" cy="266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http://www.clker.com/cliparts/f/2/0/d/13092826961846867720pencil-f-md.png"/>
          <p:cNvPicPr/>
          <p:nvPr/>
        </p:nvPicPr>
        <p:blipFill>
          <a:blip r:embed="rId2"/>
          <a:stretch/>
        </p:blipFill>
        <p:spPr>
          <a:xfrm>
            <a:off x="5943600" y="1219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8" name="Rounded Rectangular Callout 4"/>
          <p:cNvSpPr/>
          <p:nvPr/>
        </p:nvSpPr>
        <p:spPr>
          <a:xfrm>
            <a:off x="304920" y="304920"/>
            <a:ext cx="3733560" cy="327636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Everyon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Earth =</a:t>
            </a: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 more than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person—</a:t>
            </a: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billion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people, in fact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word</a:t>
            </a: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 everyon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however, is still</a:t>
            </a:r>
            <a:r>
              <a:rPr b="0" i="1" lang="en-US" sz="2500" spc="-1" strike="noStrike">
                <a:solidFill>
                  <a:srgbClr val="000000"/>
                </a:solidFill>
                <a:latin typeface="Arial Black"/>
              </a:rPr>
              <a:t> singula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Rectangle 3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8077320" cy="1298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Tito’s Taco Palace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09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Tito’s Taco Palace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301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5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449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Mini Lesson:</a:t>
            </a:r>
            <a:br>
              <a:rPr sz="6000"/>
            </a:br>
            <a:r>
              <a:rPr b="1" lang="en-US" sz="6000" spc="-1" strike="noStrike" u="sng">
                <a:solidFill>
                  <a:srgbClr val="ffffff"/>
                </a:solidFill>
                <a:uFillTx/>
                <a:latin typeface="Calibri"/>
              </a:rPr>
              <a:t>Pronoun Agreement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January 5, 2015</a:t>
            </a:r>
            <a:endParaRPr b="1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2" descr="http://languagearts.pppst.com/m_pronouns.gif"/>
          <p:cNvPicPr/>
          <p:nvPr/>
        </p:nvPicPr>
        <p:blipFill>
          <a:blip r:embed="rId1"/>
          <a:stretch/>
        </p:blipFill>
        <p:spPr>
          <a:xfrm>
            <a:off x="2629080" y="4572000"/>
            <a:ext cx="464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On your own…</a:t>
            </a:r>
            <a:endParaRPr b="1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Complete worksheets one and two with the correct pronoun.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If you finish early, write five sentences with pronouns and their antecedents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Underline the antecedent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Circle the pronoun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40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alibri"/>
              </a:rPr>
              <a:t>Pronoun and Antecedents</a:t>
            </a:r>
            <a:endParaRPr b="1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371240"/>
            <a:ext cx="8686800" cy="53341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cc00"/>
                </a:solidFill>
                <a:uFillTx/>
                <a:latin typeface="Century Gothic"/>
                <a:ea typeface="Arial"/>
              </a:rPr>
              <a:t>Antecedent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: the </a:t>
            </a:r>
            <a:r>
              <a:rPr b="1" i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specific noun 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that comes </a:t>
            </a:r>
            <a:r>
              <a:rPr b="1" i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before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 the pronoun</a:t>
            </a:r>
            <a:br>
              <a:rPr sz="4200"/>
            </a:br>
            <a:r>
              <a:rPr b="1" lang="en-US" sz="42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cc00"/>
                </a:solidFill>
                <a:uFillTx/>
                <a:latin typeface="Century Gothic"/>
                <a:ea typeface="Arial"/>
              </a:rPr>
              <a:t>Pronoun: </a:t>
            </a:r>
            <a:r>
              <a:rPr b="1" lang="en-US" sz="4200" spc="-1" strike="noStrike">
                <a:solidFill>
                  <a:srgbClr val="1e1c11"/>
                </a:solidFill>
                <a:latin typeface="Century Gothic"/>
                <a:ea typeface="Arial"/>
              </a:rPr>
              <a:t>class of words that  are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 used as </a:t>
            </a:r>
            <a:r>
              <a:rPr b="1" i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replacements</a:t>
            </a:r>
            <a:r>
              <a:rPr b="1" lang="en-US" sz="4200" spc="-1" strike="noStrike">
                <a:solidFill>
                  <a:srgbClr val="ffcc00"/>
                </a:solidFill>
                <a:latin typeface="Century Gothic"/>
                <a:ea typeface="Arial"/>
              </a:rPr>
              <a:t> for  nouns 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e1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1c11"/>
                </a:solidFill>
                <a:latin typeface="Century Gothic"/>
                <a:ea typeface="Arial"/>
              </a:rPr>
              <a:t>For Example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43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1e1c11"/>
                </a:solidFill>
                <a:uFillTx/>
                <a:latin typeface="Century Gothic"/>
                <a:ea typeface="Arial"/>
              </a:rPr>
              <a:t>Madeline</a:t>
            </a:r>
            <a:r>
              <a:rPr b="1" lang="en-US" sz="4000" spc="-1" strike="noStrike">
                <a:solidFill>
                  <a:srgbClr val="1e1c11"/>
                </a:solidFill>
                <a:latin typeface="Century Gothic"/>
                <a:ea typeface="Arial"/>
              </a:rPr>
              <a:t> bit </a:t>
            </a:r>
            <a:r>
              <a:rPr b="1" i="1" lang="en-US" sz="4000" spc="-1" strike="noStrike" u="sng">
                <a:solidFill>
                  <a:srgbClr val="1e1c11"/>
                </a:solidFill>
                <a:uFillTx/>
                <a:latin typeface="Century Gothic"/>
                <a:ea typeface="Arial"/>
              </a:rPr>
              <a:t>her</a:t>
            </a:r>
            <a:r>
              <a:rPr b="1" lang="en-US" sz="4000" spc="-1" strike="noStrike">
                <a:solidFill>
                  <a:srgbClr val="1e1c11"/>
                </a:solidFill>
                <a:latin typeface="Century Gothic"/>
                <a:ea typeface="Arial"/>
              </a:rPr>
              <a:t> lip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5" descr="http://thumbs.dreamstime.com/z/business-girl-dreaming-vacation-woman-biting-her-lip-reflection-her-sunglasses-summer-sea-palm-trees-illustration-32866099.jpg"/>
          <p:cNvPicPr/>
          <p:nvPr/>
        </p:nvPicPr>
        <p:blipFill>
          <a:blip r:embed="rId1"/>
          <a:srcRect l="0" t="0" r="9170" b="0"/>
          <a:stretch/>
        </p:blipFill>
        <p:spPr>
          <a:xfrm>
            <a:off x="6172200" y="4495680"/>
            <a:ext cx="2057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50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801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64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01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01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pronouns pronoun agreement grammar Grammar Bytes! Robin L. Simmons</cp:keywords>
  <dc:language>en-US</dc:language>
  <cp:lastModifiedBy>Shettle, Meghan</cp:lastModifiedBy>
  <dcterms:modified xsi:type="dcterms:W3CDTF">2014-12-30T19:14:30Z</dcterms:modified>
  <cp:revision>315</cp:revision>
  <dc:subject/>
  <dc:title>Pronoun Agreement</dc:title>
</cp:coreProperties>
</file>